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00E-20AE-46DC-B922-237CAF7F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A25-9416-4102-872B-166CBEAA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4E0-963F-45BD-9BAB-84219936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A5A-5693-4554-906F-19E13974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1A3-F004-4C1F-A10A-18EE0C97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55B-B56F-4B11-9E7D-29DA35A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A96-0D78-4501-AF14-4B8B3FD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8F1-3118-4CD3-AE6B-1B19EC88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CEE-62EB-43AE-8275-DAB77179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C32-A684-4DAC-8776-1CF6447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6A8-0D08-4897-96EA-66C87E9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EAD-5474-4B2F-98D0-48DCBC9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A07B-E233-4B84-85C0-F69216023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Bitterly cold winters and mild summer, Russia is a very cold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In Russia, the usual temperature in the winter is 9-21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When it snows in Russia, in most places, the snow doesn’t melt for 200-240 day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953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 Russai, there is a place that has a steppe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arm to hot dry summers and (very) cold winter with temperatures of -30 degrees and lower and sometimes heavy snow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ometimes very strong easterly winds, called Buran can occur, bringing freezing cold temperatures and snowsto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3720" y="380880"/>
            <a:ext cx="4952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ppe 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3Z</dcterms:created>
  <dc:creator> </dc:creator>
  <dc:description/>
  <dc:language>en-US</dc:language>
  <cp:lastModifiedBy> </cp:lastModifiedBy>
  <dcterms:modified xsi:type="dcterms:W3CDTF">2010-12-20T19:17:48Z</dcterms:modified>
  <cp:revision>3</cp:revision>
  <dc:subject/>
  <dc:title>Subarctic climate</dc:title>
</cp:coreProperties>
</file>